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wmf" ContentType="image/x-wmf"/>
  <Override PartName="/ppt/media/image7.png" ContentType="image/png"/>
  <Override PartName="/ppt/media/image9.png" ContentType="image/pn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 algn="r">
              <a:spcAft>
                <a:spcPts val="3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Aft>
                <a:spcPts val="3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c2c84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-216000" algn="r">
              <a:spcAft>
                <a:spcPts val="3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Aft>
                <a:spcPts val="3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3FE48-7DB4-4CD6-9826-9EB3E14B32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25F2A-3B12-4FFF-828A-00BF7D02092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Čuvar mesta za broj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84B88-7DF8-49EF-AAE7-01EE254BFF3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ger tačke su male „okidačke“ zone na telu, koje na palpaciju reaguju lokalnim i udaljenim bolom. U ovim zonama električni otpor kože je niži nego na okolnoj koži. Kada se one stimulišu laserom ili drugim fizikalnim modalitetima, može da se smanji ili da nestane lokalni i udaljeni bol i da se kožni otpor normalizuj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ger i akupunkturne tačke pretražuju se i identifikuju ommetrom. Elektroda za identifikaciju je u obliku sonde, kao što je laserska, a referentna je u obliku valka i drži se u ruci. Sniženi otpor kože može da se prikaže vizuelno i akustičk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Čuvar mesta za broj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A4EEC-5D99-4B2E-85A1-E847505042F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Čuvar mesta za broj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C18DF-8CDF-4E26-A851-92029432FAE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da atom primi (apsorbuje) foton, on prelazi u više energetsko stanje. Ta pojava se zove „pobuđivanje atoma“. To stanje je nestabilno i traje svega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-9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, posle čega se atom vraća na prvobitni energetski nivo, emitujući primljeni foton. Opisani način emisije fotona naziva s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PONTANA EMISIJA FOTONA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 taj način nastaje obična svetlo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koliko se atom već nalazi u pobuđenom stanju i kao takav primi foton, ne nastaje apsorpcija fotona, već izbijanje fotona iz pobuđenog atoma. Sada postoje 2 fotona: jedan koji nije apsorbovan i jedan izbijen iz atoma u pobuđenom stanju. Ta 2 fotona izazivaju lančanu reakciju jer izbijaju nove parove fotona, koji se umnožavaju geometrijskom progresijom. Opisani način emisije fotona  naziva s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TIMULISANA EMISIJA FOTON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Tako nastaje laserski zrak. Svi fotoni su na istom energetskom nivou  i u istoj fazi i prostiru se u istom pravcu, po čemu se laserski zrak razlikuje od vidljive svetlost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Čuvar mesta za broj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6DB97-73AD-4A05-823C-B291ACFD008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211640"/>
            <a:ext cx="5486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Систем за побуђивањ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 ствара такву активну средину у којој је број побуђених атома већи од броја атома у основном стању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остоје следеће 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методе побуђивањ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оптичк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побуђивање (кристални ласери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електричн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пражњењ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(гасни и полупроводнички ласери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обуђивање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хемијском реакцијом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хемијски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ласери)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гасно пражњењ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гасно-динамички ласер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Активна средина </a:t>
            </a: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активна материја у којој се постиж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верзна популација атом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зависности од врсте ласера она мож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ти у: гасном, течном и чврстом стањ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Резонаторни систем </a:t>
            </a: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2 паралелно постављен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гледал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д којих је једно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тпуно рефлектујућ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има улогу да створене фотоне поново врати у активну средину, који ће наставити реакцију побуђивањ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Čuvar mesta za broj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B0425-F9AE-48C5-9018-1143C0062E4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3"/>
          <p:cNvSpPr/>
          <p:nvPr/>
        </p:nvSpPr>
        <p:spPr>
          <a:xfrm>
            <a:off x="0" y="65689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4479840"/>
                <a:tab algn="r" pos="86994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- </a:t>
            </a:r>
            <a:fld id="{C587A327-3998-485F-948B-074232B585AA}" type="slidenum">
              <a:rPr b="1" lang="de-DE" sz="800" spc="-1" strike="noStrike">
                <a:solidFill>
                  <a:srgbClr val="f0000c"/>
                </a:solidFill>
                <a:latin typeface="Verdana"/>
              </a:rPr>
              <a:t>&lt;number&gt;</a:t>
            </a:fld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13"/>
          <p:cNvSpPr/>
          <p:nvPr/>
        </p:nvSpPr>
        <p:spPr>
          <a:xfrm>
            <a:off x="0" y="65689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4479840"/>
                <a:tab algn="r" pos="86994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- </a:t>
            </a:r>
            <a:fld id="{B21DCD3D-F823-448F-BE37-718F82957FB8}" type="slidenum">
              <a:rPr b="1" lang="de-DE" sz="800" spc="-1" strike="noStrike">
                <a:solidFill>
                  <a:srgbClr val="f0000c"/>
                </a:solidFill>
                <a:latin typeface="Verdana"/>
              </a:rPr>
              <a:t>&lt;number&gt;</a:t>
            </a:fld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" name="Picture 10" descr=""/>
          <p:cNvPicPr/>
          <p:nvPr/>
        </p:nvPicPr>
        <p:blipFill>
          <a:blip r:embed="rId2"/>
          <a:stretch/>
        </p:blipFill>
        <p:spPr>
          <a:xfrm flipH="1">
            <a:off x="7596000" y="333360"/>
            <a:ext cx="896760" cy="122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13"/>
          <p:cNvSpPr/>
          <p:nvPr/>
        </p:nvSpPr>
        <p:spPr>
          <a:xfrm>
            <a:off x="0" y="65689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4479840"/>
                <a:tab algn="r" pos="86994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- </a:t>
            </a:r>
            <a:fld id="{9F65C365-0F3B-40E5-B7A9-0B48C0699C3A}" type="slidenum">
              <a:rPr b="1" lang="de-DE" sz="800" spc="-1" strike="noStrike">
                <a:solidFill>
                  <a:srgbClr val="f0000c"/>
                </a:solidFill>
                <a:latin typeface="Verdana"/>
              </a:rPr>
              <a:t>&lt;number&gt;</a:t>
            </a:fld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" name="Picture 10" descr=""/>
          <p:cNvPicPr/>
          <p:nvPr/>
        </p:nvPicPr>
        <p:blipFill>
          <a:blip r:embed="rId2"/>
          <a:stretch/>
        </p:blipFill>
        <p:spPr>
          <a:xfrm flipH="1">
            <a:off x="7885080" y="189000"/>
            <a:ext cx="897120" cy="122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3"/>
          <p:cNvSpPr/>
          <p:nvPr/>
        </p:nvSpPr>
        <p:spPr>
          <a:xfrm>
            <a:off x="0" y="65689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4479840"/>
                <a:tab algn="r" pos="86994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- </a:t>
            </a:r>
            <a:fld id="{F728C9D0-6440-4C02-9D3D-5A5499BF1F0B}" type="slidenum">
              <a:rPr b="1" lang="de-DE" sz="800" spc="-1" strike="noStrike">
                <a:solidFill>
                  <a:srgbClr val="f0000c"/>
                </a:solidFill>
                <a:latin typeface="Verdana"/>
              </a:rPr>
              <a:t>&lt;number&gt;</a:t>
            </a:fld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Picture 10" descr="C:\Users\skevin\Desktop\sanja edukacija vr banja\13234173252678_medicinski_fax_logo_za_sajt.jpg"/>
          <p:cNvPicPr/>
          <p:nvPr/>
        </p:nvPicPr>
        <p:blipFill>
          <a:blip r:embed="rId2"/>
          <a:srcRect l="33153" t="14477" r="33707" b="0"/>
          <a:stretch/>
        </p:blipFill>
        <p:spPr>
          <a:xfrm>
            <a:off x="7885080" y="189000"/>
            <a:ext cx="8622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3"/>
          <p:cNvSpPr/>
          <p:nvPr/>
        </p:nvSpPr>
        <p:spPr>
          <a:xfrm>
            <a:off x="0" y="65689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4479840"/>
                <a:tab algn="r" pos="86994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- </a:t>
            </a:r>
            <a:fld id="{F552DFEC-243D-4857-946E-B53B45560AF4}" type="slidenum">
              <a:rPr b="1" lang="de-DE" sz="800" spc="-1" strike="noStrike">
                <a:solidFill>
                  <a:srgbClr val="f0000c"/>
                </a:solidFill>
                <a:latin typeface="Verdana"/>
              </a:rPr>
              <a:t>&lt;number&gt;</a:t>
            </a:fld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Straight Connector 2"/>
          <p:cNvSpPr/>
          <p:nvPr/>
        </p:nvSpPr>
        <p:spPr>
          <a:xfrm>
            <a:off x="457200" y="1341360"/>
            <a:ext cx="8143920" cy="0"/>
          </a:xfrm>
          <a:prstGeom prst="line">
            <a:avLst/>
          </a:prstGeom>
          <a:ln w="38160">
            <a:solidFill>
              <a:srgbClr val="f000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Picture 10" descr=""/>
          <p:cNvPicPr/>
          <p:nvPr/>
        </p:nvPicPr>
        <p:blipFill>
          <a:blip r:embed="rId2"/>
          <a:stretch/>
        </p:blipFill>
        <p:spPr>
          <a:xfrm flipH="1">
            <a:off x="7704000" y="120600"/>
            <a:ext cx="897120" cy="122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c2c84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13"/>
          <p:cNvSpPr/>
          <p:nvPr/>
        </p:nvSpPr>
        <p:spPr>
          <a:xfrm>
            <a:off x="0" y="65689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4479840"/>
                <a:tab algn="r" pos="86994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- </a:t>
            </a:r>
            <a:fld id="{83769461-399E-4022-99C6-7FAD10BFCFAC}" type="slidenum">
              <a:rPr b="1" lang="de-DE" sz="800" spc="-1" strike="noStrike">
                <a:solidFill>
                  <a:srgbClr val="f0000c"/>
                </a:solidFill>
                <a:latin typeface="Verdana"/>
              </a:rPr>
              <a:t>&lt;number&gt;</a:t>
            </a:fld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3" name="Picture 10" descr=""/>
          <p:cNvPicPr/>
          <p:nvPr/>
        </p:nvPicPr>
        <p:blipFill>
          <a:blip r:embed="rId2"/>
          <a:stretch/>
        </p:blipFill>
        <p:spPr>
          <a:xfrm flipH="1">
            <a:off x="7956360" y="115920"/>
            <a:ext cx="896760" cy="122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152280" y="6248520"/>
            <a:ext cx="32767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8" name="Text Box 8"/>
          <p:cNvGrpSpPr/>
          <p:nvPr/>
        </p:nvGrpSpPr>
        <p:grpSpPr>
          <a:xfrm>
            <a:off x="-60480" y="6053040"/>
            <a:ext cx="9259920" cy="549360"/>
            <a:chOff x="-60480" y="6053040"/>
            <a:chExt cx="9259920" cy="549360"/>
          </a:xfrm>
        </p:grpSpPr>
        <p:pic>
          <p:nvPicPr>
            <p:cNvPr id="239" name="Text Box 8" descr=""/>
            <p:cNvPicPr/>
            <p:nvPr/>
          </p:nvPicPr>
          <p:blipFill>
            <a:blip r:embed="rId1"/>
            <a:stretch/>
          </p:blipFill>
          <p:spPr>
            <a:xfrm>
              <a:off x="-60480" y="6053040"/>
              <a:ext cx="925992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0" y="6093000"/>
              <a:ext cx="91440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7280" indent="-287280" algn="ctr">
                <a:lnSpc>
                  <a:spcPct val="120000"/>
                </a:lnSpc>
                <a:spcBef>
                  <a:spcPts val="1125"/>
                </a:spcBef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Доц. др 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T.</a:t>
              </a:r>
              <a:r>
                <a:rPr b="1" lang="sr-CS" sz="1800" spc="-1" strike="noStrike">
                  <a:solidFill>
                    <a:srgbClr val="000000"/>
                  </a:solidFill>
                  <a:latin typeface="Verdana"/>
                </a:rPr>
                <a:t>Луковић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41" name="TextBox 1"/>
          <p:cNvGrpSpPr/>
          <p:nvPr/>
        </p:nvGrpSpPr>
        <p:grpSpPr>
          <a:xfrm>
            <a:off x="-49320" y="3968640"/>
            <a:ext cx="9259920" cy="981360"/>
            <a:chOff x="-49320" y="3968640"/>
            <a:chExt cx="9259920" cy="981360"/>
          </a:xfrm>
        </p:grpSpPr>
        <p:pic>
          <p:nvPicPr>
            <p:cNvPr id="242" name="TextBox 1" descr=""/>
            <p:cNvPicPr/>
            <p:nvPr/>
          </p:nvPicPr>
          <p:blipFill>
            <a:blip r:embed="rId2"/>
            <a:stretch/>
          </p:blipFill>
          <p:spPr>
            <a:xfrm>
              <a:off x="-49320" y="3968640"/>
              <a:ext cx="9259920" cy="98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14400" y="4005360"/>
              <a:ext cx="914400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000000"/>
                  </a:solidFill>
                  <a:latin typeface="Verdana"/>
                </a:rPr>
                <a:t>ЛАСЕРОТЕРАПИЈА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4" name="Rectangle 1"/>
          <p:cNvSpPr/>
          <p:nvPr/>
        </p:nvSpPr>
        <p:spPr>
          <a:xfrm>
            <a:off x="152280" y="0"/>
            <a:ext cx="8928360" cy="220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451"/>
              </a:spcAft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2340000" y="4437000"/>
            <a:ext cx="21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451"/>
              </a:spcAft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6" name="TextBox 1"/>
          <p:cNvGrpSpPr/>
          <p:nvPr/>
        </p:nvGrpSpPr>
        <p:grpSpPr>
          <a:xfrm>
            <a:off x="-103320" y="2266920"/>
            <a:ext cx="9259920" cy="890640"/>
            <a:chOff x="-103320" y="2266920"/>
            <a:chExt cx="9259920" cy="890640"/>
          </a:xfrm>
        </p:grpSpPr>
        <p:pic>
          <p:nvPicPr>
            <p:cNvPr id="247" name="TextBox 1" descr=""/>
            <p:cNvPicPr/>
            <p:nvPr/>
          </p:nvPicPr>
          <p:blipFill>
            <a:blip r:embed="rId3"/>
            <a:stretch/>
          </p:blipFill>
          <p:spPr>
            <a:xfrm>
              <a:off x="-103320" y="2266920"/>
              <a:ext cx="9259920" cy="8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-44280" y="2301840"/>
              <a:ext cx="9144000" cy="76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Verdana"/>
                </a:rPr>
                <a:t>Универзитет у Кр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r>
                <a:rPr b="1" lang="de-DE" sz="1600" spc="-1" strike="noStrike">
                  <a:solidFill>
                    <a:srgbClr val="000000"/>
                  </a:solidFill>
                  <a:latin typeface="Verdana"/>
                </a:rPr>
                <a:t>гујевцу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ФАКУЛТЕТ МЕДИЦИНСКИХ НАУК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49" name="Picture 10" descr=""/>
          <p:cNvPicPr/>
          <p:nvPr/>
        </p:nvPicPr>
        <p:blipFill>
          <a:blip r:embed="rId4"/>
          <a:stretch/>
        </p:blipFill>
        <p:spPr>
          <a:xfrm>
            <a:off x="3780000" y="222120"/>
            <a:ext cx="1584000" cy="205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ПОДЕЛА ЛАСЕРА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80" name="Text Placeholder 4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ема начину емитовања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5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са видљивом светлошћу од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400-780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n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са невидљивом светлошћу од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780-1500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n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Text Placeholder 5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Према извору побуде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644720" y="2349000"/>
            <a:ext cx="404172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Чврсте (рубински, неодијумски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Течн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Гасн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Молекуларн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Јонск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Електројонизацион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Гасодинамичк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Хемијск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лазмен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ПОДЕЛА ЛАСЕРА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85" name="Text Placeholder 4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ема начину емитовањ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5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нтинуиран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мпулсни 50-640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0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Text Placeholder 5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Према извору побуде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птичк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а коришћењем самосталног пражњењ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лектројонизацион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оплотн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Хемијск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комбинацион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ЛАСЕРИ У МЕДИЦИНИ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483920"/>
            <a:ext cx="8143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а коагулирајућим дејств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ируш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рапијски (биостимулативни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ЛАСЕРИ СА КОАГУЛИШУЋИМ ДЕЈСТВОМ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483920"/>
            <a:ext cx="8143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Таласна дужина &lt; 600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n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Апсорбују се у пигментима (меланину и хемоглобину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Таложе Е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активирају Т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hr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- за заустављање крварења и облитерације ситних крвних судова (око, кожа, ретина), скидање тетоважа, невуса, брадавица..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Аргонски ласе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За заустављање крварења у ДС, скидање полипа и неоплазми ДС, РС,УГС.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Неодијумски ласе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ХИРУРШКИ ЛАСЕРИ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483920"/>
            <a:ext cx="8143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Таласна дужина&gt;1100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n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псорбује се у води, тренутно испаравањ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ласерски скалпел”: бескрвни, узани, стерилни резов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За операције паренхимских органа, код гнојних обољења, малигних обољења и поремећаја коагулациј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Угљен-диоксидни ласе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Механизам деловања биостимулативних ласера 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483920"/>
            <a:ext cx="8143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ачан механизам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још није у потпуности утврђен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иако се на том пољу врло интензивно ради.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ва дејства ласеро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Th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можемо да поделимо на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1800"/>
              </a:spcBef>
              <a:buClr>
                <a:srgbClr val="f0000c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имарна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односно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иректна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1800"/>
              </a:spcBef>
              <a:buClr>
                <a:srgbClr val="f0000c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ндиректна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ТЕРАПИЈСКИ (БИОСТИМУЛАТИВНИ) ЛАСЕР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483920"/>
            <a:ext cx="8143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асери ниске снаге (хладни ласери);,,меки,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ки имају само једну, а неки више таласних дужина на излаз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рапијски ласер (600-1100 нм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знатно се апсорбују у води и пигментима, па дубље продире у ткива – биостимулативн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елијумнеонски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He-Ne)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галијумарсенск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Ga-As)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полупроводнич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ПРОДОРНОСТ Б</a:t>
            </a: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ИОСТИМУЛАТИВНОГ</a:t>
            </a: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 ЛАСЕРА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071360"/>
            <a:ext cx="814392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дорност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ласерског сноп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632,8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m)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је на нивоу кож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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 (0,5 до 0,8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Verdana"/>
              </a:rPr>
              <a:t>cm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aAs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диод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660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m;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0 мW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2-3 с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лупроводнички ласер 950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m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0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W </a:t>
            </a:r>
            <a:r>
              <a:rPr b="0" lang="ru-R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продорност и до 50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88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nm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и 920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m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0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W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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 30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Зависи од таласне дужине и особина тки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БИОЛОШКО ДЕЈСТВО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483920"/>
            <a:ext cx="8143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плотни ефека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ханички ефека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јава слободних радика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отохемијски ефек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јава ендотоксин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отоелектрични ефек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Биолошко дејство ласера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483920"/>
            <a:ext cx="8143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Основни механизам дејства је биолошка интереакција са живим ткивом-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Verdana"/>
              </a:rPr>
              <a:t>фотобиомодулациј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Структуре које апсорбују енергију фотона-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Verdana"/>
              </a:rPr>
              <a:t>хромофоре: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меланин, хемоглобин, родопсин, цитохром у митохондријама, ћелијски протеини, ензи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Ткива изложена хипоксији из било ког разлога (едем,упала, повреда..)много су подложнија деловању ласера него здрава тки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"/>
          <p:cNvSpPr/>
          <p:nvPr/>
        </p:nvSpPr>
        <p:spPr>
          <a:xfrm>
            <a:off x="577800" y="2276640"/>
            <a:ext cx="817092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20000"/>
              </a:lnSpc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instein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1917. године хипотеза о индукованој емисиј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lnSpc>
                <a:spcPct val="120000"/>
              </a:lnSpc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sov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horov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1964. Нобелову награду за физику развоја ласер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lnSpc>
                <a:spcPct val="120000"/>
              </a:lnSpc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hwalow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1981. Нобелову награду за ласерску спектроскопиј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531720" y="601560"/>
            <a:ext cx="735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ИСТОРИЈАТ ЛАСЕ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Straight Connector 2"/>
          <p:cNvSpPr/>
          <p:nvPr/>
        </p:nvSpPr>
        <p:spPr>
          <a:xfrm>
            <a:off x="531720" y="1341360"/>
            <a:ext cx="8143920" cy="0"/>
          </a:xfrm>
          <a:prstGeom prst="line">
            <a:avLst/>
          </a:prstGeom>
          <a:ln w="38160">
            <a:solidFill>
              <a:srgbClr val="f000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ТЕРАПИЈСКО ДЕЛОВАЊЕ ЛАСЕРА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483920"/>
            <a:ext cx="8143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Биостимулативно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Нормализује ћелијски метаболиза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убрзава ћелијску деобу (митозу) и синтезу ДНК и РН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овећава број колагених влакана и синтезу колаген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овећава синтезу АТП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убрзава размену кроз ћелијску мембран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мења дејство ензима у базалном слоју епите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ТЕРАПИЈСКО ДЕЛОВАЊЕ ЛАСЕРА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68360" y="1071720"/>
            <a:ext cx="814392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Аналгетско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стумулише “брза” бета-А влакна (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ate control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Блокира пренос кроз 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C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аферентна влакна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стимулише продукцију бета-ендорфирин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снижава брадикинин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нтиинфламаторно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смањује лучење простагландин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бољшава фагоцитозу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мења интерлеукине и хистамин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мунолошко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супресија Т и Б лимфоцит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дужено преживљавање трансплатат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Клинички ефекти ласера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483920"/>
            <a:ext cx="8143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Смањење запаљења (антиинфламаторно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Побољшање циркулације и неоангиогенез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Побољшање лимфотока (антиедематозно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Побољшање функције везивног ткива и убрзано зарастање рана (трофичко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Смањење бола (аналгетско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Дозирање ласера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483920"/>
            <a:ext cx="8143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Место примен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Врста сонде(таласна дужина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Снага сонд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Фреквенциј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Време озрачивањ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Укупан број третман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Техника примене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413000"/>
            <a:ext cx="61308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кенирајући 15-30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nd grip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igger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тачк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асеропунктура (над рефлексогеним зонама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5" name="Picture 4" descr="C:\Users\pokon\Desktop\FAKULTET\SILABUSI ZA 2014\Sanja nastavne jedinice\SLIKE ZA PREDAVANJA\Laser sonda.jpg"/>
          <p:cNvPicPr/>
          <p:nvPr/>
        </p:nvPicPr>
        <p:blipFill>
          <a:blip r:embed="rId1"/>
          <a:stretch/>
        </p:blipFill>
        <p:spPr>
          <a:xfrm>
            <a:off x="6227640" y="4508640"/>
            <a:ext cx="2032200" cy="16812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5" descr="C:\Users\pokon\Desktop\FAKULTET\SILABUSI ZA 2014\Sanja nastavne jedinice\SLIKE ZA PREDAVANJA\laseroterapia3.jpg"/>
          <p:cNvPicPr/>
          <p:nvPr/>
        </p:nvPicPr>
        <p:blipFill>
          <a:blip r:embed="rId2"/>
          <a:stretch/>
        </p:blipFill>
        <p:spPr>
          <a:xfrm>
            <a:off x="6227640" y="1459080"/>
            <a:ext cx="20322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ДОЗИРАЊЕ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68360" y="1341360"/>
            <a:ext cx="814392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Фреквенција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1 - 10 Hz спа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змолит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ич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10 - 60 Hz аналгетс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100 - 600 Hz трофичн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преко 1000 Hz антинфламаторн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Снага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5 - 10 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акупунктур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50 - 70 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скенирајућ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Време трајања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1 - 10 min, максим. 30 m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Енергија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4Ј, 6Ј/cm² ... максимално 68 Ј/cm 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ЛАСЕР ВИСОКОГ ИНТЕНЗИТЕТА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7200" y="1483920"/>
            <a:ext cx="8143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Излазна снага је у просеку 30-50 пута већа у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поређењу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са конвенционалним „хладним“ терапијским ласерим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Оптималан однос апсорпције и пенетрациј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еограничен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дубин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продирања у ткиво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поткожном ткиву се стварају фотомеханички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талас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који блокирају бол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ГЛАВНИ МЕДИЦИНСКИ </a:t>
            </a: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ЕФЕКТ</a:t>
            </a: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И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7200" y="1483920"/>
            <a:ext cx="8143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Биостимулација + </a:t>
            </a:r>
            <a:r>
              <a:rPr b="1" lang="de-DE" sz="2400" spc="-1" strike="noStrike" u="sng">
                <a:solidFill>
                  <a:srgbClr val="000000"/>
                </a:solidFill>
                <a:uFillTx/>
                <a:latin typeface="Verdana"/>
              </a:rPr>
              <a:t>фотомеханичка         стимулација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фотомеханички талас  стимулише слободне нервне завршетке и друге рецепторе за бол у поткожном ткиву 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блокира путеве преношења бола у нервном систему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подстиче локалну микроциркулацију и подстиче лимфну дренаж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ГЛАВНИ МЕДИЦИНСКИ УЧИНЦИ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1483920"/>
            <a:ext cx="8143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2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Регенерациј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нажна и дуготрајна аналгезиј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нтиинфламаторн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нтиедемaтозн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ПРИМЕНА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483920"/>
            <a:ext cx="8143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онтинуирани мод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f0000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Оптимални терап</a:t>
            </a: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ијски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ефекат 810/980</a:t>
            </a: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nm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или 1064</a:t>
            </a: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nm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f0000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Дубока пенетрација(10-12</a:t>
            </a: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cm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!) снаге до 12W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f0000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Б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ез нежељених ефекат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улсни мод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f0000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Т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аласном дужином од ~ 1000</a:t>
            </a: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n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f0000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Фреквенца понављања пулса 10-30 Hz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f0000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оментално ослоба</a:t>
            </a: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ђ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ање од бол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Терапијски третман траје од 10-20 </a:t>
            </a:r>
            <a:r>
              <a:rPr b="0" lang="de-DE" sz="2300" spc="-1" strike="noStrike">
                <a:solidFill>
                  <a:srgbClr val="000000"/>
                </a:solidFill>
                <a:latin typeface="Verdana"/>
              </a:rPr>
              <a:t>mi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Verdana"/>
              </a:rPr>
              <a:t>О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бично се спроводи 10-15 третмана</a:t>
            </a:r>
            <a:r>
              <a:rPr b="0" lang="de-DE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ДЕФИНИЦИЈА ЛАСЕРСКЕ СВЕТЛОСТИ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483920"/>
            <a:ext cx="8143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0000c"/>
                </a:solidFill>
                <a:latin typeface="Verdana"/>
              </a:rPr>
              <a:t>L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ight </a:t>
            </a:r>
            <a:r>
              <a:rPr b="1" lang="sr-Latn-CS" sz="2400" spc="-1" strike="noStrike">
                <a:solidFill>
                  <a:srgbClr val="f0000c"/>
                </a:solidFill>
                <a:latin typeface="Verdana"/>
              </a:rPr>
              <a:t>A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mplification by </a:t>
            </a:r>
            <a:r>
              <a:rPr b="1" lang="sr-Latn-CS" sz="2400" spc="-1" strike="noStrike">
                <a:solidFill>
                  <a:srgbClr val="f0000c"/>
                </a:solidFill>
                <a:latin typeface="Verdana"/>
              </a:rPr>
              <a:t>S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timulated </a:t>
            </a:r>
            <a:r>
              <a:rPr b="1" lang="sr-Latn-CS" sz="2400" spc="-1" strike="noStrike">
                <a:solidFill>
                  <a:srgbClr val="f0000c"/>
                </a:solidFill>
                <a:latin typeface="Verdana"/>
              </a:rPr>
              <a:t>E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mission of </a:t>
            </a:r>
            <a:r>
              <a:rPr b="1" lang="sr-Latn-CS" sz="2400" spc="-1" strike="noStrike">
                <a:solidFill>
                  <a:srgbClr val="f0000c"/>
                </a:solidFill>
                <a:latin typeface="Verdana"/>
              </a:rPr>
              <a:t>R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adi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звор веома усмереног снопа кохерентне монохроматске светл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понтана и стимулисана зрачењ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ИНДИКАЦИЈЕ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483920"/>
            <a:ext cx="814392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ТРАУМАТОЛОГИЈА И СПОРТСКА МЕДИЦИНА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дисторзије, контузије, тендинити, тендовагинити, руптуре мишића, ентезити и ентезопатије, свежи преломи..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ПРОМЕНЕ НА КРВНИМ СУДОВИМА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варикси,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lcus varicosum, Mb Raunauyd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КОЖНЕ БОЛЕСТИ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екцем, акне, фурункули, 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simpl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, 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h zoster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, аналне фисуре..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ране и опекотине, лимфед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ИНДИКАЦИЈЕ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7200" y="1483920"/>
            <a:ext cx="8143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ГИНЕКОЛОГИЈА И УРОЛОГИЈА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днексити, ендоцервицити, ерозије грлића, маститис, уретрити.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ОФТАЛМОЛОГИЈА:</a:t>
            </a: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г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лауком, аблација ретине.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РЕУМАТСКА ОБОЉЕЊА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запаљенски у ремисији, дегенеративни, ванзглобни..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КОНТРАИНДИКАЦИЈЕ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1483920"/>
            <a:ext cx="8143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5000"/>
          </a:bodyPr>
          <a:p>
            <a:pPr marL="291600" indent="-29160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Општ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Малигнитет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еца - предео епифиза костију у развој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едео о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Инфицирани делови,фотосензитивне региј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едео жл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езда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тиреоидее, гонада и др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.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Трудноћа (трбух и крста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Срчани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ce maker (грудни кош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Тромбозе и тромбофлебитис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Епилепсија (глава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МЕРЕ ЗАШТИТЕ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1483920"/>
            <a:ext cx="8143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5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очари са посебним филтр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бро и равномерно осветљена просторија, без огледала, без лакираних површин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 гледати у ласерски сноп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Особине ласерске светлости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04880" y="2421000"/>
            <a:ext cx="4665600" cy="34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457200" indent="-457200">
              <a:spcBef>
                <a:spcPts val="2401"/>
              </a:spcBef>
              <a:buClr>
                <a:srgbClr val="f0000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Кохерентност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сви фотони у истој фази, исте Е и исти правац простирања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2401"/>
              </a:spcBef>
              <a:buClr>
                <a:srgbClr val="f0000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Монохроматичност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једна боја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2401"/>
              </a:spcBef>
              <a:buClr>
                <a:srgbClr val="f0000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Усмереност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минимално расипањ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7" name="Picture 5" descr=""/>
          <p:cNvPicPr/>
          <p:nvPr/>
        </p:nvPicPr>
        <p:blipFill>
          <a:blip r:embed="rId1"/>
          <a:stretch/>
        </p:blipFill>
        <p:spPr>
          <a:xfrm>
            <a:off x="5370480" y="2708280"/>
            <a:ext cx="3259080" cy="36291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" descr=""/>
          <p:cNvPicPr/>
          <p:nvPr/>
        </p:nvPicPr>
        <p:blipFill>
          <a:blip r:embed="rId2"/>
          <a:srcRect l="46072" t="0" r="9253" b="50023"/>
          <a:stretch/>
        </p:blipFill>
        <p:spPr>
          <a:xfrm>
            <a:off x="5370480" y="1498680"/>
            <a:ext cx="32590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Стимулисана емисија фотона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pic>
        <p:nvPicPr>
          <p:cNvPr id="260" name="Picture 6" descr="C:\Users\pokon\Desktop\FAKULTET\SILABUSI ZA 2014\Sanja nastavne jedinice\SLIKE ZA PREDAVANJA\slika final.jpg"/>
          <p:cNvPicPr/>
          <p:nvPr/>
        </p:nvPicPr>
        <p:blipFill>
          <a:blip r:embed="rId1"/>
          <a:stretch/>
        </p:blipFill>
        <p:spPr>
          <a:xfrm>
            <a:off x="900000" y="1413000"/>
            <a:ext cx="734400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Основни елементи ласера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pic>
        <p:nvPicPr>
          <p:cNvPr id="262" name="Picture 3" descr="C:\Users\pokon\Desktop\FAKULTET\SILABUSI ZA 2014\Sanja nastavne jedinice\SLIKE ZA PREDAVANJA\466px-Lasercons_svg.png"/>
          <p:cNvPicPr/>
          <p:nvPr/>
        </p:nvPicPr>
        <p:blipFill>
          <a:blip r:embed="rId1"/>
          <a:srcRect l="1371" t="14983" r="1638" b="3322"/>
          <a:stretch/>
        </p:blipFill>
        <p:spPr>
          <a:xfrm>
            <a:off x="1428840" y="2357280"/>
            <a:ext cx="6286320" cy="3286440"/>
          </a:xfrm>
          <a:prstGeom prst="rect">
            <a:avLst/>
          </a:prstGeom>
          <a:ln w="0">
            <a:noFill/>
          </a:ln>
        </p:spPr>
      </p:pic>
      <p:sp>
        <p:nvSpPr>
          <p:cNvPr id="263" name="Rounded Rectangle 3"/>
          <p:cNvSpPr/>
          <p:nvPr/>
        </p:nvSpPr>
        <p:spPr>
          <a:xfrm>
            <a:off x="2143080" y="300024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451"/>
              </a:spcAft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1571760" y="24289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451"/>
              </a:spcAft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TextBox 5"/>
          <p:cNvSpPr/>
          <p:nvPr/>
        </p:nvSpPr>
        <p:spPr>
          <a:xfrm>
            <a:off x="1356840" y="2625840"/>
            <a:ext cx="1297800" cy="649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Verdana"/>
              </a:rPr>
              <a:t>Непропусно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2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Verdana"/>
              </a:rPr>
              <a:t>огледало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Rounded Rectangle 6"/>
          <p:cNvSpPr/>
          <p:nvPr/>
        </p:nvSpPr>
        <p:spPr>
          <a:xfrm>
            <a:off x="2916360" y="2643120"/>
            <a:ext cx="2128680" cy="66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20160" dir="5400000" blurRad="0" rotWithShape="0">
              <a:srgbClr val="ffffff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Verdana"/>
              </a:rPr>
              <a:t>Ласерска пумпа (извор енергије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Rounded Rectangle 7"/>
          <p:cNvSpPr/>
          <p:nvPr/>
        </p:nvSpPr>
        <p:spPr>
          <a:xfrm>
            <a:off x="5072040" y="2533680"/>
            <a:ext cx="1857240" cy="66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20160" dir="5400000" blurRad="0" rotWithShape="0">
              <a:srgbClr val="ffffff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Verdana"/>
              </a:rPr>
              <a:t>Полупропусно огледало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Rounded Rectangle 8"/>
          <p:cNvSpPr/>
          <p:nvPr/>
        </p:nvSpPr>
        <p:spPr>
          <a:xfrm>
            <a:off x="2714760" y="4286160"/>
            <a:ext cx="2571480" cy="66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20160" dir="5400000" blurRad="0" rotWithShape="0">
              <a:srgbClr val="ffffff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Verdana"/>
              </a:rPr>
              <a:t>Активни медијум у резонантној кутиј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ounded Rectangle 9"/>
          <p:cNvSpPr/>
          <p:nvPr/>
        </p:nvSpPr>
        <p:spPr>
          <a:xfrm>
            <a:off x="6858000" y="3643200"/>
            <a:ext cx="1571760" cy="66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20160" dir="5400000" blurRad="0" rotWithShape="0">
              <a:srgbClr val="ffffff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Verdana"/>
              </a:rPr>
              <a:t>ЛАСЕРСКИ ЗРАК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ОСНОВНИ ЕЛЕМЕНТИ ЛАСЕРА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483920"/>
            <a:ext cx="8143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ктивно средство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резонантној кутији, заједно са пропуст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љ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вим и непропустљивим огледал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множава фотон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ише од половине честица су на вишем ниво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Ласерска пумпа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: извор енергије за побуђивањ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езонатор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дужава пут емитованих фотона и њихово дејство на активно сред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ине га два паралелна огледала изме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ђ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 којих је активно средство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Подела ласера према енергији зрачења и ризику за ткива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483920"/>
            <a:ext cx="8143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III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класе 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нискоенергетски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: у физикалној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IV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 класе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 високоенергетски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: ласерски нож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 снага преко 500 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m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Ocupational Safety and Health Administratio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ПОДЕЛА ЛАСЕРА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75" name="Text Placeholder 4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ема таласној дужин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5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са видљивом светлошћу од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400-780 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n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са невидљивом светлошћу од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780-1500 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n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Text Placeholder 5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На основу активног материјала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644720" y="2349000"/>
            <a:ext cx="404172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Чврсте (рубински, неодијумски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..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Течн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Гасн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Молекуларн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Јонск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Електројонизацион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Гасодинамичк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Хемијск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лазмен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5T21:33:56Z</dcterms:created>
  <dc:creator>+++</dc:creator>
  <dc:description/>
  <dc:language>en-US</dc:language>
  <cp:lastModifiedBy>Info</cp:lastModifiedBy>
  <dcterms:modified xsi:type="dcterms:W3CDTF">2019-10-11T19:28:13Z</dcterms:modified>
  <cp:revision>661</cp:revision>
  <dc:subject/>
  <dc:title>PowerPoint-Präsentation</dc:title>
</cp:coreProperties>
</file>